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39E-4628-4FC9-9175-8894D493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EFB-7A7B-4A68-AFBD-C4BA2151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0C5-352B-45C3-8663-0FD7AE87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670-936D-4A1A-A4CB-D7F2261A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A8B-5C13-4FAA-82A2-2045EB31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4CD-62C6-4603-BB68-199A3B53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075-370E-46AE-8570-88A9E0AB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3C8-27C4-4EE1-8BFF-6EEABEC6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9FB-75C4-4196-AA81-0289BCA9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739-6D7F-4536-B26B-02FFF9C6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359-FFAB-4864-89A4-629CC64C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363-61A6-4A96-8282-12228F3B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240E-BF0A-43D8-9560-A203F0475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Clase 8 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8 de noviembre del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Propósito # 15:</a:t>
            </a: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Qué esta haciendo el agente de la aduan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p. 93 (1-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avión aterriza cuando empieza el vue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pasajeros reclaman su equipaje a bordo del av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asistentes de vuelo conocen muy bien a todos los pasajeros porque son su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avión despega cuando llega a su desti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agentes de la línea aérea que trabajan en el mostrador en el aeropuerto son miembros de la tripul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uelo internacional es un vuelo que va a un país extranj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440" y="2819520"/>
            <a:ext cx="58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440" y="3276720"/>
            <a:ext cx="58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440" y="3733920"/>
            <a:ext cx="58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560" y="4343400"/>
            <a:ext cx="58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80" y="4952880"/>
            <a:ext cx="58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3720" y="601992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es son los miembros de la tripul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inspecciona el equipa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pués que desembarcan, ¿Qué tienen que hacer los pasaje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enes pasan por el control de segur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ga los siguientes verbos en el presente progres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la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488280"/>
        </p:xfrm>
        <a:graphic>
          <a:graphicData uri="http://schemas.openxmlformats.org/drawingml/2006/table">
            <a:tbl>
              <a:tblPr/>
              <a:tblGrid>
                <a:gridCol w="2133720"/>
                <a:gridCol w="2438280"/>
                <a:gridCol w="2286000"/>
                <a:gridCol w="22860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r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ar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clam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cer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con la forma correcta del presente progre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lumnos ______________ a la profesora. (escuch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u ____________ a conjugar. (apre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_ español. (estudi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éctor ______________ a Madrid. (part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_ para el equipaje. (reclam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pasajeros _____________ el avión. (embarc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sistente _____________ al pasajero. (ayu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_____________ ahora? (ha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___ un equipaje de mano pequeño. (tra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 familia __________________ al aeropuerto para ir a casa. (ven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¾ on TUESDAY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ort vocabular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 Progre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gs. 87-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3:55:28Z</dcterms:created>
  <dc:creator>Helen Zumaeta</dc:creator>
  <dc:description/>
  <dc:language>en-US</dc:language>
  <cp:lastModifiedBy>Helen Zumaeta</cp:lastModifiedBy>
  <dcterms:modified xsi:type="dcterms:W3CDTF">2011-11-21T21:55:46Z</dcterms:modified>
  <cp:revision>6</cp:revision>
  <dc:subject/>
  <dc:title>Me llamo _________     Clase 7 IM La fecha es el 28 de octubre del 2011</dc:title>
</cp:coreProperties>
</file>